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690-AE88-44D7-9FC0-27D14381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B74-2F99-4FBC-A9AF-7FADFB10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FEC-E468-46AF-B33E-F4DB6C55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09D-CD8A-4AD6-AE11-E469FC54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CEB-7845-4CC2-9D41-08F348AB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249-3EBE-46ED-92CD-D35B4E7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332-6DFC-4E6E-837B-EBB6B5B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332-DA5E-4A9D-80AD-BD15297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3A8-1448-47CE-A41A-ACF508C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DA7-A83F-4526-B96E-6634379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274-B626-408C-A26D-139E2400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2E3-F472-47C2-A8DD-7439165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2A92-53BD-437D-AB3A-A0D6B518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Using El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333760" cy="147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638680" y="2743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36232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3526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51814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6338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320" y="6400800"/>
            <a:ext cx="4952880" cy="3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3716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dding or Subtracting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First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9120" y="762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4520" y="12952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75248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no, multiply one or both of the equations by something to make one of the variable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6280" y="5729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44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362320" cy="453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1271520"/>
            <a:ext cx="2209680" cy="938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9480" y="6172200"/>
            <a:ext cx="243864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772400" cy="124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477120" y="1752480"/>
            <a:ext cx="1066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943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81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65760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lain when it’s best to solve a system using elimination, and when it’s best to use substit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2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5257800" cy="113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4343400"/>
            <a:ext cx="51814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162920" cy="112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00800" y="1600200"/>
            <a:ext cx="8380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495288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7162920" cy="120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880" y="4724280"/>
            <a:ext cx="8458200" cy="36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5440320"/>
            <a:ext cx="86868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2072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2209680"/>
            <a:ext cx="2286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9436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8288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First to Solv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9120" y="76212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04520" y="12952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Are they lined u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175248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Does either variable cancel if you add the equ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and solve for the remaining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no, multiply one or both of the equations by something to make one of the variable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38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Solve for the other variable and write the answe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6280" y="57294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3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808200"/>
            <a:ext cx="3581640" cy="25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514600" cy="1117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44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3520" y="6181560"/>
            <a:ext cx="2590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172200" cy="895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10080" y="1371600"/>
            <a:ext cx="914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6553080" cy="660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85800" y="3048120"/>
            <a:ext cx="6324480" cy="68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48640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80880" y="5773680"/>
            <a:ext cx="830592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305920" cy="122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66880" y="2362320"/>
            <a:ext cx="24386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54:40Z</dcterms:created>
  <dc:creator>Susannah Graham</dc:creator>
  <dc:description/>
  <dc:language>en-US</dc:language>
  <cp:lastModifiedBy>Susannah Graham</cp:lastModifiedBy>
  <dcterms:modified xsi:type="dcterms:W3CDTF">2009-08-04T21:32:24Z</dcterms:modified>
  <cp:revision>4</cp:revision>
  <dc:subject/>
  <dc:title>Lesson 7.3 Solving Systems Using Elimination</dc:title>
</cp:coreProperties>
</file>